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05E-1B90-4D6C-A08D-A9902464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A6B-8C02-45B4-87B1-A6A7C772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46F-8D77-4A52-AA5E-38EDE47C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788-E127-43F2-9705-8558F651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0DC-A6ED-40FD-AB2F-B3C2D65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791-6486-4D8C-8DA7-B8C05FA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C49-C06F-4B6D-B24C-3B47387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6AD-0F48-4AAC-8C1A-FFD0395B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44-4D00-4B2E-A989-B7E1EF4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059-48D3-4A03-A3EF-A73F2DD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275-D8DE-4214-BE83-11CE711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6E6-C1F2-42AF-B859-E5A79F6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CB0-808F-45CA-8962-50ABC98FD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-73080" y="3343320"/>
            <a:ext cx="87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运算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90320"/>
            <a:chOff x="1499760" y="1887480"/>
            <a:chExt cx="41230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8080" y="2696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的运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71560" y="1450800"/>
            <a:ext cx="34574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法交换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798640" y="76320"/>
            <a:ext cx="5940720" cy="1224000"/>
          </a:xfrm>
          <a:prstGeom prst="cloudCallout">
            <a:avLst>
              <a:gd name="adj1" fmla="val -61625"/>
              <a:gd name="adj2" fmla="val -940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学过哪些整数运算的运算律？用字母表示出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029120" y="1378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+b=b+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84760" y="19400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+b)+c=a+(b+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7480" y="25160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×b=b×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884760" y="309240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884760" y="361152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ac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957480" y="46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-b-c=a-(b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956040" y="51944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800280" y="526716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除法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871560" y="476244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减法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71560" y="3683160"/>
            <a:ext cx="345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分配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71560" y="31068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结合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871560" y="2532240"/>
            <a:ext cx="345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交换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71560" y="195588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加法结合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944640" y="166680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368280" y="2371680"/>
            <a:ext cx="5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五个定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439560" y="4834080"/>
            <a:ext cx="5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两个性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1087560" y="5051520"/>
            <a:ext cx="288720" cy="1079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811"/>
                </a:lnTo>
                <a:cubicBezTo>
                  <a:pt x="10800" y="9710"/>
                  <a:pt x="5400" y="10609"/>
                  <a:pt x="0" y="10609"/>
                </a:cubicBezTo>
                <a:cubicBezTo>
                  <a:pt x="5400" y="10609"/>
                  <a:pt x="10800" y="11508"/>
                  <a:pt x="10800" y="12407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884760" y="411480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</a:t>
            </a:r>
            <a:r>
              <a:rPr b="0" lang="en-US" sz="1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ac</a:t>
            </a:r>
            <a:r>
              <a:rPr b="0" lang="en-US" sz="1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3956040" y="57564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迷你简胖头鱼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迷你简胖头鱼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1374840" y="577044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迷你简胖头鱼"/>
              </a:rPr>
              <a:t>带符号搬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3957480" y="6048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a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迷你简胖头鱼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b÷c=a÷c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迷你简胖头鱼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344600" y="7761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举一些例子验证这些运算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78400" y="1595520"/>
            <a:ext cx="2304720" cy="28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242040" y="1584360"/>
            <a:ext cx="230508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711600" y="1800360"/>
            <a:ext cx="2592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共有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46920" y="3413160"/>
            <a:ext cx="9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×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6680880" y="1655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1"/>
          <a:stretch/>
        </p:blipFill>
        <p:spPr>
          <a:xfrm>
            <a:off x="6710400" y="2220840"/>
            <a:ext cx="1295280" cy="812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6350400" y="3086280"/>
            <a:ext cx="15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可以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313320" y="5329080"/>
            <a:ext cx="216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6315120" y="4824360"/>
            <a:ext cx="2087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365880" y="439272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5+ 4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8"/>
          <p:cNvGrpSpPr/>
          <p:nvPr/>
        </p:nvGrpSpPr>
        <p:grpSpPr>
          <a:xfrm>
            <a:off x="34920" y="1555920"/>
            <a:ext cx="3543480" cy="4755960"/>
            <a:chOff x="34920" y="1555920"/>
            <a:chExt cx="3543480" cy="4755960"/>
          </a:xfrm>
        </p:grpSpPr>
        <p:sp>
          <p:nvSpPr>
            <p:cNvPr id="81" name="云形标注 1"/>
            <p:cNvSpPr/>
            <p:nvPr/>
          </p:nvSpPr>
          <p:spPr>
            <a:xfrm>
              <a:off x="636480" y="1555920"/>
              <a:ext cx="2941920" cy="2165400"/>
            </a:xfrm>
            <a:prstGeom prst="cloudCallout">
              <a:avLst>
                <a:gd name="adj1" fmla="val -19314"/>
                <a:gd name="adj2" fmla="val 748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841320" y="1944720"/>
              <a:ext cx="261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+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+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+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7" descr="ren13"/>
            <p:cNvPicPr/>
            <p:nvPr/>
          </p:nvPicPr>
          <p:blipFill>
            <a:blip r:embed="rId2"/>
            <a:stretch/>
          </p:blipFill>
          <p:spPr>
            <a:xfrm>
              <a:off x="34920" y="3865680"/>
              <a:ext cx="1903680" cy="24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34150" descr="79"/>
          <p:cNvPicPr/>
          <p:nvPr/>
        </p:nvPicPr>
        <p:blipFill>
          <a:blip r:embed="rId1"/>
          <a:srcRect l="4641" t="44585" r="12794" b="32719"/>
          <a:stretch/>
        </p:blipFill>
        <p:spPr>
          <a:xfrm>
            <a:off x="0" y="1341360"/>
            <a:ext cx="9144000" cy="37371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4556880" y="5359320"/>
            <a:ext cx="4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第一道算式运用了乘法结合律，第二道算式运用了乘法分配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第三道算式运用了乘法分配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33126"/>
          <p:cNvSpPr/>
          <p:nvPr/>
        </p:nvSpPr>
        <p:spPr>
          <a:xfrm>
            <a:off x="1599840" y="66204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3127"/>
          <p:cNvSpPr/>
          <p:nvPr/>
        </p:nvSpPr>
        <p:spPr>
          <a:xfrm>
            <a:off x="279720" y="11970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3128"/>
          <p:cNvSpPr/>
          <p:nvPr/>
        </p:nvSpPr>
        <p:spPr>
          <a:xfrm>
            <a:off x="2661840" y="11970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5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7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3129"/>
          <p:cNvSpPr/>
          <p:nvPr/>
        </p:nvSpPr>
        <p:spPr>
          <a:xfrm>
            <a:off x="5476680" y="1197000"/>
            <a:ext cx="28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0.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.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4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3130"/>
          <p:cNvSpPr/>
          <p:nvPr/>
        </p:nvSpPr>
        <p:spPr>
          <a:xfrm>
            <a:off x="517320" y="30430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5×49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3131"/>
          <p:cNvSpPr/>
          <p:nvPr/>
        </p:nvSpPr>
        <p:spPr>
          <a:xfrm>
            <a:off x="2957040" y="3043080"/>
            <a:ext cx="21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8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36×1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3132"/>
          <p:cNvSpPr/>
          <p:nvPr/>
        </p:nvSpPr>
        <p:spPr>
          <a:xfrm>
            <a:off x="5754960" y="304308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8×4×12.5×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3133"/>
          <p:cNvSpPr/>
          <p:nvPr/>
        </p:nvSpPr>
        <p:spPr>
          <a:xfrm>
            <a:off x="429840" y="461484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.7×4.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2.7×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3134"/>
          <p:cNvSpPr/>
          <p:nvPr/>
        </p:nvSpPr>
        <p:spPr>
          <a:xfrm>
            <a:off x="3528720" y="461484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905×9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9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3135"/>
          <p:cNvSpPr/>
          <p:nvPr/>
        </p:nvSpPr>
        <p:spPr>
          <a:xfrm>
            <a:off x="6129360" y="461484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3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0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3136"/>
          <p:cNvSpPr/>
          <p:nvPr/>
        </p:nvSpPr>
        <p:spPr>
          <a:xfrm>
            <a:off x="15120" y="1557360"/>
            <a:ext cx="21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4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3137"/>
          <p:cNvSpPr/>
          <p:nvPr/>
        </p:nvSpPr>
        <p:spPr>
          <a:xfrm>
            <a:off x="26280" y="20383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3138"/>
          <p:cNvSpPr/>
          <p:nvPr/>
        </p:nvSpPr>
        <p:spPr>
          <a:xfrm>
            <a:off x="36720" y="2467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3139"/>
          <p:cNvSpPr/>
          <p:nvPr/>
        </p:nvSpPr>
        <p:spPr>
          <a:xfrm>
            <a:off x="2392560" y="15318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54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4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33140"/>
          <p:cNvSpPr/>
          <p:nvPr/>
        </p:nvSpPr>
        <p:spPr>
          <a:xfrm>
            <a:off x="2403000" y="20145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4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33141"/>
          <p:cNvSpPr/>
          <p:nvPr/>
        </p:nvSpPr>
        <p:spPr>
          <a:xfrm>
            <a:off x="2413440" y="24670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3146"/>
          <p:cNvSpPr/>
          <p:nvPr/>
        </p:nvSpPr>
        <p:spPr>
          <a:xfrm>
            <a:off x="5227920" y="1509840"/>
            <a:ext cx="39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7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.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.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.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3147"/>
          <p:cNvSpPr/>
          <p:nvPr/>
        </p:nvSpPr>
        <p:spPr>
          <a:xfrm>
            <a:off x="5113440" y="1996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3148"/>
          <p:cNvSpPr/>
          <p:nvPr/>
        </p:nvSpPr>
        <p:spPr>
          <a:xfrm>
            <a:off x="5140080" y="2467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3149"/>
          <p:cNvSpPr/>
          <p:nvPr/>
        </p:nvSpPr>
        <p:spPr>
          <a:xfrm>
            <a:off x="238680" y="33829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25×4×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3150"/>
          <p:cNvSpPr/>
          <p:nvPr/>
        </p:nvSpPr>
        <p:spPr>
          <a:xfrm>
            <a:off x="174600" y="3790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00×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3151"/>
          <p:cNvSpPr/>
          <p:nvPr/>
        </p:nvSpPr>
        <p:spPr>
          <a:xfrm>
            <a:off x="110160" y="42210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3152"/>
          <p:cNvSpPr/>
          <p:nvPr/>
        </p:nvSpPr>
        <p:spPr>
          <a:xfrm>
            <a:off x="2663280" y="3357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8×125×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3153"/>
          <p:cNvSpPr/>
          <p:nvPr/>
        </p:nvSpPr>
        <p:spPr>
          <a:xfrm>
            <a:off x="2599200" y="3765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000×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3154"/>
          <p:cNvSpPr/>
          <p:nvPr/>
        </p:nvSpPr>
        <p:spPr>
          <a:xfrm>
            <a:off x="2534760" y="41958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3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3155"/>
          <p:cNvSpPr/>
          <p:nvPr/>
        </p:nvSpPr>
        <p:spPr>
          <a:xfrm>
            <a:off x="5406120" y="335772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×12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×0.2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3156"/>
          <p:cNvSpPr/>
          <p:nvPr/>
        </p:nvSpPr>
        <p:spPr>
          <a:xfrm>
            <a:off x="5285160" y="37893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00 ×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3157"/>
          <p:cNvSpPr/>
          <p:nvPr/>
        </p:nvSpPr>
        <p:spPr>
          <a:xfrm>
            <a:off x="5221440" y="41958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3158"/>
          <p:cNvSpPr/>
          <p:nvPr/>
        </p:nvSpPr>
        <p:spPr>
          <a:xfrm>
            <a:off x="124560" y="5013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2.7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.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.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33159"/>
          <p:cNvSpPr/>
          <p:nvPr/>
        </p:nvSpPr>
        <p:spPr>
          <a:xfrm>
            <a:off x="122760" y="5421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2.7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3160"/>
          <p:cNvSpPr/>
          <p:nvPr/>
        </p:nvSpPr>
        <p:spPr>
          <a:xfrm>
            <a:off x="55440" y="5805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3161"/>
          <p:cNvSpPr/>
          <p:nvPr/>
        </p:nvSpPr>
        <p:spPr>
          <a:xfrm>
            <a:off x="3284280" y="5013360"/>
            <a:ext cx="25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905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3162"/>
          <p:cNvSpPr/>
          <p:nvPr/>
        </p:nvSpPr>
        <p:spPr>
          <a:xfrm>
            <a:off x="3281760" y="54212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905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3163"/>
          <p:cNvSpPr/>
          <p:nvPr/>
        </p:nvSpPr>
        <p:spPr>
          <a:xfrm>
            <a:off x="3214080" y="5805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90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3164"/>
          <p:cNvSpPr/>
          <p:nvPr/>
        </p:nvSpPr>
        <p:spPr>
          <a:xfrm>
            <a:off x="5907960" y="501336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3×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3×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3165"/>
          <p:cNvSpPr/>
          <p:nvPr/>
        </p:nvSpPr>
        <p:spPr>
          <a:xfrm>
            <a:off x="5781960" y="54212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3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3166"/>
          <p:cNvSpPr/>
          <p:nvPr/>
        </p:nvSpPr>
        <p:spPr>
          <a:xfrm>
            <a:off x="5794200" y="5805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 13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32102" descr="79"/>
          <p:cNvPicPr/>
          <p:nvPr/>
        </p:nvPicPr>
        <p:blipFill>
          <a:blip r:embed="rId1"/>
          <a:srcRect l="3489" t="81360" r="9281" b="6899"/>
          <a:stretch/>
        </p:blipFill>
        <p:spPr>
          <a:xfrm>
            <a:off x="0" y="1268280"/>
            <a:ext cx="9144000" cy="1830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32103"/>
          <p:cNvSpPr/>
          <p:nvPr/>
        </p:nvSpPr>
        <p:spPr>
          <a:xfrm>
            <a:off x="1412640" y="3139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32104"/>
          <p:cNvSpPr/>
          <p:nvPr/>
        </p:nvSpPr>
        <p:spPr>
          <a:xfrm>
            <a:off x="1220400" y="397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2105"/>
          <p:cNvSpPr/>
          <p:nvPr/>
        </p:nvSpPr>
        <p:spPr>
          <a:xfrm>
            <a:off x="2517120" y="31370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6×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4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32106"/>
          <p:cNvSpPr/>
          <p:nvPr/>
        </p:nvSpPr>
        <p:spPr>
          <a:xfrm>
            <a:off x="5257080" y="313200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 4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32107"/>
          <p:cNvSpPr/>
          <p:nvPr/>
        </p:nvSpPr>
        <p:spPr>
          <a:xfrm>
            <a:off x="2252160" y="3951360"/>
            <a:ext cx="27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32108"/>
          <p:cNvSpPr/>
          <p:nvPr/>
        </p:nvSpPr>
        <p:spPr>
          <a:xfrm>
            <a:off x="5269680" y="395136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 4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2109"/>
          <p:cNvSpPr/>
          <p:nvPr/>
        </p:nvSpPr>
        <p:spPr>
          <a:xfrm>
            <a:off x="4038480" y="47973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共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4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